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28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png" ContentType="image/png"/>
  <Override PartName="/ppt/media/image15.png" ContentType="image/png"/>
  <Override PartName="/ppt/media/image24.jpeg" ContentType="image/jpeg"/>
  <Override PartName="/ppt/media/image4.wmf" ContentType="image/x-wmf"/>
  <Override PartName="/ppt/media/image27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8AACB-1179-4A13-B730-354838C46A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6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A9117-B5F5-41E8-93DE-0A301B4092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6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8B352-DABB-4D93-AAA2-B9BFE65543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6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AB9C7-69E2-48C2-B5C8-70AFDAE341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6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4A354-F1D4-47E9-8685-2786661726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07B31-D99F-49ED-9EB0-EEF3270ADE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B6A0B-2D07-4BF1-8DB6-462277FFDC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047-4A90-49F1-A557-5F11106D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90E-1F76-4056-9254-4FB1F797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E26A2-E5D2-4098-9167-2268E711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4D5F1-3C67-43ED-AFB7-EFE0630E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A7EDE-8E4F-4C12-A598-B310A9B5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C669A-C37A-4D25-919E-8BC27950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42010-3FBE-44DD-9BC8-40C73538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03741-1FF7-46B7-A06B-F9B8C9A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273CF-744D-4449-A90A-B70427E4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362BD-4442-4C4F-8682-66A7DE07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0E397-2616-4239-9BA2-6419961B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9E1E2-DBB9-43E6-B202-D17A51FB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46D-EDB7-4C34-B9F5-8EB13150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FFE85-B97D-45B7-879D-92366463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506F9-4BA1-4E21-8008-A7F60CFB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5E257-AD4E-4441-AB88-A114751E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4C249-1855-43BB-A227-AF0A5301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D7FE3-74B5-41B4-A760-20593116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20F30-DAE0-45A5-BF70-0FC1632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98CE9-A92C-4954-81A0-81EE93B5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0CE12-969C-4DB0-B014-4FA8863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5678D-D886-424D-8158-C6B0BE4F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754CF-DC8A-43EC-8460-B2F766A1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2BD-311A-4A62-A9B1-F836E1A4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ABF8A-91D7-4043-AF5D-B2BE075E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CC5A-18D1-4F73-A6D8-DC42B999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175B9-A500-484D-A788-AA2A04C9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AA305-C9F6-4B02-8E0D-21454A7D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A819E-5491-4B03-AF62-6D940DF5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0F59-283C-4AC5-8145-049A26A2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34CD3-B8D2-4EB5-9630-7C7D2738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EE65D-C038-4826-B79D-9F3B3C21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D955C-3888-4C54-B120-ECCFCDB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6A033-0B24-4A6E-829F-FAFED7B8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DC80-9BDA-4D39-9AB5-1D9B5D6C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48753-D985-4022-895D-640CDF3A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6BB5C-DB94-49C5-8190-B5DEEA84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F07A2-BC9C-4CE1-AD30-1067682C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26005-6AF1-4C9D-AD8A-04CA09F7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EC799-BAAA-429D-87D8-CA3F92AF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C710D-0D02-4669-A31C-EFE44589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27575-EE88-429B-BC61-CEF2EAAE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9ECC6-CBB0-4935-93A8-E59BEA87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D4510-1815-4AA4-9AD7-5BC409E2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3CFCB-728F-40FA-B631-35F2289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0181-EE19-47A1-B208-D4716C6F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DC34B-4280-4C22-BFE5-11B6C130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82536-8540-4DC2-B5F8-5D5ECEA7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74B99-3504-4B77-B6CF-8CA69EDC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FF2D8-D9DE-41B1-97FF-FA4D8E2A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A073A-7826-45B1-B494-B8BD8595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E3BE6-FFCD-430F-8AD2-8CCDBBA4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E81A9-68AC-4F9F-A0C2-0D4B48FF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3D5CE-F15C-4011-8444-C875F4FC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7A758-661C-40FC-8ACE-C362D150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D6B3B-0A98-459C-9AD2-2D096F11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0077-CA96-485F-8CCD-40F2DAC3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B9A80-8B3F-41F1-BE90-C2A9F9F2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AA39B-F52D-4222-8FB7-45FAC57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04961-B2F9-4712-AF92-0FEECC5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81B8A-0E3B-4A71-BBB5-DC7F8DAE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29831-035D-41D5-BD36-96BBF43A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12E69-B3DA-4DDD-AFB4-57D6D44A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3EAB7-F0B4-4324-93AE-12F7CF5E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95D76-3B25-4316-9207-AF2BE9D4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EC69A-DDE7-44FE-878C-C43A2E70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FFBA3-E92A-442F-9D1B-690F3943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9722-1D22-48A5-92B5-3AD356CB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94C96-A293-46BD-AB46-84866E21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09BD1-5115-4787-943E-49073E85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192A0-767D-4003-AD4D-A60FA0F2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39A83-B479-474D-A9BB-5C516FE2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91FEC-E0F5-4867-87CA-76D09A05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AF01B-5787-4628-AC9E-D6188EF5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2A25D-2A53-4D61-AB1E-B78E57EA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46CD8-8727-4B35-923F-C7212ABB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E9201-77A4-441B-A9C1-8D9D2597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47B7-8BCB-4D3A-8F73-3CDD6296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6A84-6B25-4F01-8653-CBB061D6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7289-C9E6-48B1-8F5B-AF22F658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9FF-A1F3-42D0-BE7D-065B10E0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7ECA-8C58-4A4A-965F-A94E1B8C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432B-72DE-437E-B83C-ED65C75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44F6-9AB5-436E-A224-7272FBD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3C7F-56AE-41FB-B0C7-4CC6256A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99A4-D410-400D-9878-DE920996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5974-3526-4DB0-8F8C-A4D3A9AC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61B0-1960-420B-8BCE-3B80BABB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EAD8-AAB1-4B80-AABC-6CF9BA54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C06B-0E21-4DA1-B6C5-69CBB6C8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0E85-3F16-4FC8-9CAA-343818C5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09E-92FD-4F97-B36C-D5699F4E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B88E-CD06-45C9-9B18-E733E95B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B793-EF60-4346-9E39-459A6D4D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DAE9-FF4D-4397-954F-E1AE1923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C715-A46C-418F-8072-AF9BA846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D969-8350-4F1D-97AA-3F220CBB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AA19-2FFD-4C84-BBB5-FF7E2C8F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63A5-EF77-4D96-BCA2-1E503B1C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E312D-1666-4613-99AE-D7750982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3889-BCF1-413F-9802-42ECEC18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32F87-DCA8-473C-B2B3-2DB9D022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4FC-5046-4A24-9D46-E7037EDD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E04C9-BA92-4B51-9C51-F4106B70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95ED-E873-4C29-8984-1DA3ACD7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BC40-1738-4EEA-B6FC-A0BF55A7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3446-1929-438E-8404-C86E5AB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113E-F529-4E4B-BAE2-085E86D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AC58-A44B-4A18-BE77-869B098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0C89-33D3-4FF5-99DC-2CE1143E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F6CF6-AD9D-4D73-8778-5A42BD4F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4FED1-6BA7-4F60-B892-16106E2D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0D8E3-29CA-4302-AE1C-C978A64A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E1E-C976-4AE8-8796-39D7B9D4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1BF7E-216B-41F5-A7BD-667973EE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C2D93-2D65-4993-AC13-290546BB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DADDF-EC18-419B-89C3-9AF88DC4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117B3-6D7B-4114-A981-D50C08D1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7751-463E-46B5-AFFD-CC5EAF08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48FB3-7437-4D94-BF41-F3201F6B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33B97-262F-493C-A59B-E8A2C7C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3040C-CA83-4C52-B633-6BCA0C3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A24D9-E4A3-4CFD-9B93-D1A0FB24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63E4-C8B0-4AD4-B9CF-49CCD185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8CD-E179-4277-B816-9E81E56A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39F8-8F09-4D88-919B-A9BD6C4E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BBEF6-C1A4-4CBB-9205-42B3A476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DE0AD-6E22-4425-95A0-0AD1244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D7067-34F9-437A-9DF7-A49A1FD9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C07B-93BB-47F3-8AE4-A6521C9E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61960-010F-4E3B-A6D6-1A4A2C71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B951-6B5E-4AD9-B76A-2E9DFA76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5343E-36A2-41FB-81C1-0E0884A5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83BFE-3C6D-4B09-984F-DB80A9F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64AC9-B145-42CC-8F64-A2DA045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6BF-1417-4AFD-BA65-29676870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A0C48-73FC-4CAE-8876-5EE8A295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07B6-97DD-4A7C-AEFC-96B1A2DA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30FB-5521-4CB3-85E3-579BDCF3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1CEFE-72B9-44A5-A837-F6B02B8C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FAF89-1B18-4A2C-8958-EACA1B6B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1566F-53D8-4F9D-B1F7-E879F21D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63B80-4F90-472C-A55D-F149008E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DFD4F-79B5-4497-890A-103BA277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5346C-21B6-4399-A703-91920208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4F78E-1D29-4EC3-8BA7-B3043D94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955-A206-4BD8-8C43-78ABDDD9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69B54-4E1C-47D6-8728-EC127E8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3BF7C-1193-4058-B0F8-41D801D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A60C8-3891-4F5E-B865-62CC3F5C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4D73F-5379-4CDC-BDF9-144C9B62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8793-5DFC-419E-92D5-54D23E86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D615E-628E-4B05-BB09-96EF3FCE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B178A-E9F0-42A2-BC47-F5EAFE14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D99D3-4198-44E0-BC48-D1568EB1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C5D08-4295-43AD-9943-70E1971F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469A2-23F1-4AE3-A8C7-77FCC9EA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662-36E1-489F-BE9B-91B36663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65BB3-E4D1-4FB4-ABFE-58819D88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21C14-A2C2-4DB8-B1B7-26E3265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5F974-C1C0-4533-A902-BF40B6D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0F3B5-EACC-4944-8A2D-96C33B9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AA000-6388-4DDF-85E9-5665E03F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304B5-E01B-411F-82D7-A0352846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244D-F43A-4F63-A265-1D8588A3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DDA6E-E39F-4B17-B976-D10E2B7C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671DB-31AF-44CC-9C01-5BA49C71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FA6D4-A6B0-4E91-BC7A-3835A873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3CF1B-EB42-49BD-9750-D4FF8AFE287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9BC33-D423-4A3B-B4F5-C9CA11D8E9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31B4B-FDD6-4AB0-9A83-4654B3A8D18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6C10B-32A5-4DC8-AC2F-79C498E4110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9005C-F406-4E03-A2E8-00CD570C9F0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3EE46-465D-4DA5-B5FA-212B0D324D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1D53B-231D-4BF5-BF80-B4692947DA4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EFBE0-7487-4B89-B18C-DF23D8E7D8C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3BA34-ED8C-42FC-AB47-157AABBB56E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CEB5D-6C47-414B-89B7-D3441735A34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2365A-2864-4CF3-99C9-EE4B093346F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3C2D2-FE08-43B1-AD08-B8468AB9C95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26D90-3FFA-4032-A4F1-53418285BF4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F3909-00B4-4F18-96DF-E83E12C6FA8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C:\Users\Ирина\Downloads\hello_html_m31808ae8.jpg"/>
          <p:cNvPicPr/>
          <p:nvPr/>
        </p:nvPicPr>
        <p:blipFill>
          <a:blip r:embed="rId1"/>
          <a:stretch/>
        </p:blipFill>
        <p:spPr>
          <a:xfrm>
            <a:off x="571680" y="2428920"/>
            <a:ext cx="2734920" cy="41432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6"/>
          <p:cNvSpPr/>
          <p:nvPr/>
        </p:nvSpPr>
        <p:spPr>
          <a:xfrm>
            <a:off x="3429000" y="285840"/>
            <a:ext cx="521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Arbat-Bold"/>
              </a:rPr>
              <a:t>     </a:t>
            </a:r>
            <a:r>
              <a:rPr b="1" lang="ru-RU" sz="2800" spc="-1" strike="noStrike">
                <a:solidFill>
                  <a:srgbClr val="712d1c"/>
                </a:solidFill>
                <a:latin typeface="Arbat-Bold"/>
              </a:rPr>
              <a:t>Если запастись терпением и проявить стремление, то постоянные семена знания дадут добрые всходы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Arbat-Bold"/>
              </a:rPr>
              <a:t>                   </a:t>
            </a:r>
            <a:r>
              <a:rPr b="1" lang="ru-RU" sz="2800" spc="-1" strike="noStrike">
                <a:solidFill>
                  <a:srgbClr val="712d1c"/>
                </a:solidFill>
                <a:latin typeface="Arbat-Bold"/>
              </a:rPr>
              <a:t>Леонардо да Винч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18920" y="162000"/>
            <a:ext cx="5484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280" bIns="46800" anchor="b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Представим, что 6 склонений — это ваза</a:t>
            </a:r>
            <a:endParaRPr b="0" lang="en-US" sz="3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928600" y="3427200"/>
            <a:ext cx="544356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-293760">
              <a:spcBef>
                <a:spcPts val="601"/>
              </a:spcBef>
              <a:buClr>
                <a:srgbClr val="d16349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древнерусском языке тоже было склонение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90600" indent="-293760">
              <a:spcBef>
                <a:spcPts val="601"/>
              </a:spcBef>
              <a:buClr>
                <a:srgbClr val="d16349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клонений было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6357960" y="4714920"/>
            <a:ext cx="1306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982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ru-RU" sz="6500" spc="-1" strike="noStrike">
                <a:solidFill>
                  <a:srgbClr val="000080"/>
                </a:solidFill>
                <a:latin typeface="Arial"/>
                <a:ea typeface="SimSun"/>
              </a:rPr>
              <a:t>6</a:t>
            </a:r>
            <a:endParaRPr b="0" lang="en-US" sz="6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56" name="Picture 7" descr="C:\Users\USER\Downloads\full1329980937.jpg"/>
          <p:cNvPicPr/>
          <p:nvPr/>
        </p:nvPicPr>
        <p:blipFill>
          <a:blip r:embed="rId1"/>
          <a:stretch/>
        </p:blipFill>
        <p:spPr>
          <a:xfrm>
            <a:off x="6203880" y="1770120"/>
            <a:ext cx="2482920" cy="16588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C:\Users\USER\Downloads\large.jpg"/>
          <p:cNvPicPr/>
          <p:nvPr/>
        </p:nvPicPr>
        <p:blipFill>
          <a:blip r:embed="rId2"/>
          <a:stretch/>
        </p:blipFill>
        <p:spPr>
          <a:xfrm>
            <a:off x="660240" y="2774880"/>
            <a:ext cx="2592720" cy="3456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0" descr="G:\картинки, анимашки, фоны 2\3684807.png"/>
          <p:cNvPicPr/>
          <p:nvPr/>
        </p:nvPicPr>
        <p:blipFill>
          <a:blip r:embed="rId3"/>
          <a:stretch/>
        </p:blipFill>
        <p:spPr>
          <a:xfrm>
            <a:off x="5354640" y="-163440"/>
            <a:ext cx="28987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1" name="Picture 5" descr="C:\Users\USER\Downloads\cbac0cda9b1bd7d7284c68ec00pa--materialy-dlya-tvorchestva-1kg-oskolki-tsvetnogo.jpg"/>
          <p:cNvPicPr/>
          <p:nvPr/>
        </p:nvPicPr>
        <p:blipFill>
          <a:blip r:embed="rId1"/>
          <a:stretch/>
        </p:blipFill>
        <p:spPr>
          <a:xfrm>
            <a:off x="147600" y="120600"/>
            <a:ext cx="8801280" cy="66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280" bIns="46800" anchor="b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ru-RU" sz="3100" spc="-1" strike="noStrike">
                <a:solidFill>
                  <a:srgbClr val="7b9899"/>
                </a:solidFill>
                <a:latin typeface="Georgia"/>
              </a:rPr>
              <a:t>Что делать с осколками?</a:t>
            </a:r>
            <a:endParaRPr b="0" lang="en-US" sz="3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785880" y="1500120"/>
            <a:ext cx="47671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-293760" algn="ctr">
              <a:spcBef>
                <a:spcPts val="601"/>
              </a:spcBef>
              <a:buClr>
                <a:srgbClr val="d16349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гда мы попытались склеить вазу из осколков, у нас получилась новая ваз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90600" indent="-293760" algn="ctr">
              <a:spcBef>
                <a:spcPts val="601"/>
              </a:spcBef>
              <a:buClr>
                <a:srgbClr val="d16349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остались лишние осколки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4" name="Picture 6" descr="C:\Users\USER\Downloads\555.jpg"/>
          <p:cNvPicPr/>
          <p:nvPr/>
        </p:nvPicPr>
        <p:blipFill>
          <a:blip r:embed="rId1"/>
          <a:stretch/>
        </p:blipFill>
        <p:spPr>
          <a:xfrm>
            <a:off x="979560" y="3540240"/>
            <a:ext cx="2155680" cy="27320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7" descr="C:\Users\USER\Downloads\0_5a8a_f18ba843_XL.jpg"/>
          <p:cNvPicPr/>
          <p:nvPr/>
        </p:nvPicPr>
        <p:blipFill>
          <a:blip r:embed="rId2"/>
          <a:stretch/>
        </p:blipFill>
        <p:spPr>
          <a:xfrm>
            <a:off x="5681520" y="1468440"/>
            <a:ext cx="3749760" cy="49118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9" descr="G:\картинки, анимашки, фоны 2\3684807.png"/>
          <p:cNvPicPr/>
          <p:nvPr/>
        </p:nvPicPr>
        <p:blipFill>
          <a:blip r:embed="rId3"/>
          <a:stretch/>
        </p:blipFill>
        <p:spPr>
          <a:xfrm>
            <a:off x="5551560" y="-39600"/>
            <a:ext cx="1744560" cy="87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3"/>
          <p:cNvSpPr/>
          <p:nvPr/>
        </p:nvSpPr>
        <p:spPr>
          <a:xfrm>
            <a:off x="1428840" y="1785960"/>
            <a:ext cx="55720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60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Arial"/>
                <a:ea typeface="SimSun"/>
              </a:rPr>
              <a:t>Новая ваза —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SimSun"/>
              </a:rPr>
              <a:t>это новая система склонений в русском языке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2155680" y="3554280"/>
            <a:ext cx="3918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60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Arial"/>
                <a:ea typeface="SimSun"/>
              </a:rPr>
              <a:t>Осколки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ru-RU" sz="2900" spc="-1" strike="noStrike">
                <a:solidFill>
                  <a:srgbClr val="c00000"/>
                </a:solidFill>
                <a:latin typeface="Arial"/>
                <a:ea typeface="SimSun"/>
              </a:rPr>
              <a:t>—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SimSun"/>
              </a:rPr>
              <a:t> это разносклоняемые существительные. Их мы не смогли никуда «приклеить»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69" name="Picture 6" descr="C:\Users\USER\Downloads\0_5a8a_f18ba843_XL.jpg"/>
          <p:cNvPicPr/>
          <p:nvPr/>
        </p:nvPicPr>
        <p:blipFill>
          <a:blip r:embed="rId1"/>
          <a:stretch/>
        </p:blipFill>
        <p:spPr>
          <a:xfrm>
            <a:off x="5029200" y="650880"/>
            <a:ext cx="4511520" cy="59072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7" descr="C:\Users\USER\Downloads\555.jpg"/>
          <p:cNvPicPr/>
          <p:nvPr/>
        </p:nvPicPr>
        <p:blipFill>
          <a:blip r:embed="rId2"/>
          <a:stretch/>
        </p:blipFill>
        <p:spPr>
          <a:xfrm>
            <a:off x="282600" y="3363840"/>
            <a:ext cx="2328840" cy="31244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8" descr="G:\картинки, анимашки, фоны 2\3684807.png"/>
          <p:cNvPicPr/>
          <p:nvPr/>
        </p:nvPicPr>
        <p:blipFill>
          <a:blip r:embed="rId3"/>
          <a:stretch/>
        </p:blipFill>
        <p:spPr>
          <a:xfrm>
            <a:off x="5291280" y="-144360"/>
            <a:ext cx="189072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12280" y="1037880"/>
            <a:ext cx="75438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0" y="-1179720"/>
            <a:ext cx="9144000" cy="82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f496f"/>
              </a:solidFill>
              <a:latin typeface="Georgia"/>
            </a:endParaRPr>
          </a:p>
        </p:txBody>
      </p:sp>
      <p:pic>
        <p:nvPicPr>
          <p:cNvPr id="774" name="Рисунок 6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e9f8"/>
            </a:gs>
            <a:gs pos="100000">
              <a:srgbClr val="065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12640" y="4487400"/>
            <a:ext cx="38433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Я 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76" name="Объект 4" descr=""/>
          <p:cNvPicPr/>
          <p:nvPr/>
        </p:nvPicPr>
        <p:blipFill>
          <a:blip r:embed="rId1"/>
          <a:stretch/>
        </p:blipFill>
        <p:spPr>
          <a:xfrm>
            <a:off x="324000" y="849240"/>
            <a:ext cx="4078080" cy="363852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 txBox="1"/>
          <p:nvPr/>
        </p:nvSpPr>
        <p:spPr>
          <a:xfrm>
            <a:off x="4401720" y="259920"/>
            <a:ext cx="405756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ная петля или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дужка для упора ног всадника при верховой езд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3520" y="5157360"/>
            <a:ext cx="35337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79" name="Объект 4" descr=""/>
          <p:cNvPicPr/>
          <p:nvPr/>
        </p:nvPicPr>
        <p:blipFill>
          <a:blip r:embed="rId1"/>
          <a:srcRect l="9783" t="0" r="9783" b="0"/>
          <a:stretch/>
        </p:blipFill>
        <p:spPr>
          <a:xfrm>
            <a:off x="108000" y="620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 txBox="1"/>
          <p:nvPr/>
        </p:nvSpPr>
        <p:spPr>
          <a:xfrm>
            <a:off x="4284720" y="0"/>
            <a:ext cx="485928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льность</a:t>
            </a:r>
            <a:r>
              <a:rPr b="1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-нибудь, измеряемая секундами, минутами, часами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3751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М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82" name="Объект 5" descr=""/>
          <p:cNvPicPr/>
          <p:nvPr/>
        </p:nvPicPr>
        <p:blipFill>
          <a:blip r:embed="rId1"/>
          <a:srcRect l="0" t="1579" r="0" b="1579"/>
          <a:stretch/>
        </p:blipFill>
        <p:spPr>
          <a:xfrm>
            <a:off x="179280" y="836640"/>
            <a:ext cx="4608720" cy="365904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 txBox="1"/>
          <p:nvPr/>
        </p:nvSpPr>
        <p:spPr>
          <a:xfrm>
            <a:off x="4786200" y="333360"/>
            <a:ext cx="420552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 у самок млекопитающих животных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4" name="Рисунок 2" descr=""/>
          <p:cNvPicPr/>
          <p:nvPr/>
        </p:nvPicPr>
        <p:blipFill>
          <a:blip r:embed="rId2"/>
          <a:stretch/>
        </p:blipFill>
        <p:spPr>
          <a:xfrm>
            <a:off x="0" y="836640"/>
            <a:ext cx="49291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160" y="5157360"/>
            <a:ext cx="3678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86" name="Объект 6" descr=""/>
          <p:cNvPicPr/>
          <p:nvPr/>
        </p:nvPicPr>
        <p:blipFill>
          <a:blip r:embed="rId1"/>
          <a:srcRect l="0" t="1545" r="0" b="1545"/>
          <a:stretch/>
        </p:blipFill>
        <p:spPr>
          <a:xfrm>
            <a:off x="324000" y="476280"/>
            <a:ext cx="4190760" cy="4392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 txBox="1"/>
          <p:nvPr/>
        </p:nvSpPr>
        <p:spPr>
          <a:xfrm>
            <a:off x="4932000" y="620640"/>
            <a:ext cx="381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название человека, даваемое при рождении 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8a1a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160" y="5229360"/>
            <a:ext cx="406692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М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89" name="Объект 5" descr=""/>
          <p:cNvPicPr/>
          <p:nvPr/>
        </p:nvPicPr>
        <p:blipFill>
          <a:blip r:embed="rId1"/>
          <a:stretch/>
        </p:blipFill>
        <p:spPr>
          <a:xfrm>
            <a:off x="301680" y="1711440"/>
            <a:ext cx="4038480" cy="400212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 txBox="1"/>
          <p:nvPr/>
        </p:nvSpPr>
        <p:spPr>
          <a:xfrm>
            <a:off x="4932000" y="764640"/>
            <a:ext cx="381636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полотнище определённого цвета на древк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1619280" y="18900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 u="sng">
                <a:solidFill>
                  <a:srgbClr val="1a13a1"/>
                </a:solidFill>
                <a:uFillTx/>
                <a:latin typeface="Arial Black"/>
              </a:rPr>
              <a:t>Склонение</a:t>
            </a:r>
            <a:r>
              <a:rPr b="1" lang="ru-RU" sz="6600" spc="-1" strike="noStrike" u="sng">
                <a:solidFill>
                  <a:srgbClr val="646b86"/>
                </a:solidFill>
                <a:uFillTx/>
                <a:latin typeface="Franklin Gothic Heavy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468360" y="1700280"/>
            <a:ext cx="7632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bat-Bold"/>
              </a:rPr>
              <a:t>- изменение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bat-Bold"/>
              </a:rPr>
              <a:t>слова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bat-Bold"/>
              </a:rPr>
              <a:t>по падежам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160" y="5157360"/>
            <a:ext cx="398124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М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92" name="Объект 6" descr=""/>
          <p:cNvPicPr/>
          <p:nvPr/>
        </p:nvPicPr>
        <p:blipFill>
          <a:blip r:embed="rId1"/>
          <a:srcRect l="0" t="22727" r="0" b="22727"/>
          <a:stretch/>
        </p:blipFill>
        <p:spPr>
          <a:xfrm>
            <a:off x="324000" y="981000"/>
            <a:ext cx="4190760" cy="37846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 txBox="1"/>
          <p:nvPr/>
        </p:nvSpPr>
        <p:spPr>
          <a:xfrm>
            <a:off x="4932000" y="549360"/>
            <a:ext cx="381636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нь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33520" y="5254560"/>
            <a:ext cx="39672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95" name="Объект 5" descr=""/>
          <p:cNvPicPr/>
          <p:nvPr/>
        </p:nvPicPr>
        <p:blipFill>
          <a:blip r:embed="rId1"/>
          <a:stretch/>
        </p:blipFill>
        <p:spPr>
          <a:xfrm>
            <a:off x="663480" y="1371600"/>
            <a:ext cx="3265560" cy="43434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 txBox="1"/>
          <p:nvPr/>
        </p:nvSpPr>
        <p:spPr>
          <a:xfrm>
            <a:off x="5148000" y="980640"/>
            <a:ext cx="360036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, народность, связанные родовыми отношениями, общим языком и территорией 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8a1ad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5229360"/>
            <a:ext cx="410976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98" name="Объект 6" descr=""/>
          <p:cNvPicPr/>
          <p:nvPr/>
        </p:nvPicPr>
        <p:blipFill>
          <a:blip r:embed="rId1"/>
          <a:stretch/>
        </p:blipFill>
        <p:spPr>
          <a:xfrm>
            <a:off x="301680" y="1722600"/>
            <a:ext cx="4038480" cy="39798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 txBox="1"/>
          <p:nvPr/>
        </p:nvSpPr>
        <p:spPr>
          <a:xfrm>
            <a:off x="4928760" y="928800"/>
            <a:ext cx="4032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ёрна, предназначенные для посе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3520" y="5300640"/>
            <a:ext cx="410976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01" name="Объект 5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 txBox="1"/>
          <p:nvPr/>
        </p:nvSpPr>
        <p:spPr>
          <a:xfrm>
            <a:off x="5003640" y="1125360"/>
            <a:ext cx="36720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яя часть головы между лобными, затылочными и височными костями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8a1ad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3520" y="5373360"/>
            <a:ext cx="35337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М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04" name="Picture 2" descr=""/>
          <p:cNvPicPr/>
          <p:nvPr/>
        </p:nvPicPr>
        <p:blipFill>
          <a:blip r:embed="rId1"/>
          <a:stretch/>
        </p:blipFill>
        <p:spPr>
          <a:xfrm>
            <a:off x="1125360" y="1808280"/>
            <a:ext cx="2391120" cy="38084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4859280" y="476280"/>
            <a:ext cx="41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Тяжелая ноша (стар.). 2. перен. Нечто тяжкое, трудное, тяжесть (книжн.)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3967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уть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57880" y="1500120"/>
            <a:ext cx="331776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орог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08" name="Объект 4" descr=""/>
          <p:cNvPicPr/>
          <p:nvPr/>
        </p:nvPicPr>
        <p:blipFill>
          <a:blip r:embed="rId1"/>
          <a:stretch/>
        </p:blipFill>
        <p:spPr>
          <a:xfrm>
            <a:off x="4857840" y="3571920"/>
            <a:ext cx="400032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4"/>
          <p:cNvSpPr/>
          <p:nvPr/>
        </p:nvSpPr>
        <p:spPr>
          <a:xfrm>
            <a:off x="108000" y="0"/>
            <a:ext cx="9036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 u="sng">
                <a:solidFill>
                  <a:srgbClr val="1a13a1"/>
                </a:solidFill>
                <a:uFillTx/>
                <a:latin typeface="Antiqua-Bold"/>
              </a:rPr>
              <a:t>10 </a:t>
            </a:r>
            <a:r>
              <a:rPr b="1" i="1" lang="ru-RU" sz="4800" spc="-1" strike="noStrike" u="sng">
                <a:solidFill>
                  <a:srgbClr val="1a13a1"/>
                </a:solidFill>
                <a:uFillTx/>
                <a:latin typeface="Antiqua-Bold"/>
              </a:rPr>
              <a:t>существительных на –мя                                                  + путь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32400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611280" y="1916280"/>
            <a:ext cx="10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 Black"/>
              </a:rPr>
              <a:t>Р. Д.П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539640" y="551664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684360" y="51213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 Black"/>
              </a:rPr>
              <a:t>Т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4" name="Rectangle 9"/>
          <p:cNvSpPr/>
          <p:nvPr/>
        </p:nvSpPr>
        <p:spPr>
          <a:xfrm>
            <a:off x="3421080" y="2481120"/>
            <a:ext cx="122400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-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3492360" y="5084640"/>
            <a:ext cx="13669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-ем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6" name="Line 11"/>
          <p:cNvSpPr/>
          <p:nvPr/>
        </p:nvSpPr>
        <p:spPr>
          <a:xfrm>
            <a:off x="1547640" y="2349360"/>
            <a:ext cx="172908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7" name="Line 12"/>
          <p:cNvSpPr/>
          <p:nvPr/>
        </p:nvSpPr>
        <p:spPr>
          <a:xfrm>
            <a:off x="1619280" y="3213000"/>
            <a:ext cx="180036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Line 13"/>
          <p:cNvSpPr/>
          <p:nvPr/>
        </p:nvSpPr>
        <p:spPr>
          <a:xfrm flipV="1">
            <a:off x="1619280" y="3499920"/>
            <a:ext cx="165744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9" name="Line 14"/>
          <p:cNvSpPr/>
          <p:nvPr/>
        </p:nvSpPr>
        <p:spPr>
          <a:xfrm>
            <a:off x="1619280" y="558972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0" name="Text Box 16"/>
          <p:cNvSpPr/>
          <p:nvPr/>
        </p:nvSpPr>
        <p:spPr>
          <a:xfrm>
            <a:off x="6372360" y="2708280"/>
            <a:ext cx="2519280" cy="76428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ntiqua-Bold"/>
              </a:rPr>
              <a:t>3-е скл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1" name="Rectangle 18"/>
          <p:cNvSpPr/>
          <p:nvPr/>
        </p:nvSpPr>
        <p:spPr>
          <a:xfrm>
            <a:off x="6516720" y="5084640"/>
            <a:ext cx="2376360" cy="76428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ntiqua-Bold"/>
              </a:rPr>
              <a:t>2-е скл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2" name="Line 19"/>
          <p:cNvSpPr/>
          <p:nvPr/>
        </p:nvSpPr>
        <p:spPr>
          <a:xfrm>
            <a:off x="4788000" y="314172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Line 20"/>
          <p:cNvSpPr/>
          <p:nvPr/>
        </p:nvSpPr>
        <p:spPr>
          <a:xfrm>
            <a:off x="4932360" y="5516640"/>
            <a:ext cx="151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4" descr="chrysant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50021"/>
                </a:solidFill>
                <a:latin typeface="Georgia"/>
              </a:rPr>
              <a:t>Объяснительный диктан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00080"/>
                </a:solidFill>
                <a:latin typeface="Georgia"/>
              </a:rPr>
              <a:t>        </a:t>
            </a:r>
            <a:r>
              <a:rPr b="1" lang="ru-RU" sz="2700" spc="-1" strike="noStrike">
                <a:solidFill>
                  <a:srgbClr val="800080"/>
                </a:solidFill>
                <a:latin typeface="Georgia"/>
              </a:rPr>
              <a:t>Вставить пропущенные буквы, объяснить правописание слов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терянного врем…н… (не) воротиш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ого плам…н… (не) задуеш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ет тяжелей брем…н…, чем бездель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 худого сем…н… (не) жди доброго плем…н…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4" descr="chrysant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75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50021"/>
                </a:solidFill>
                <a:latin typeface="Georgia"/>
              </a:rPr>
              <a:t>«Проверь себя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71720" y="1213920"/>
            <a:ext cx="762624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00080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800080"/>
                </a:solidFill>
                <a:latin typeface="Georgia"/>
              </a:rPr>
              <a:t>Озаглавить и списать текст; вставить пропущенные буквы; объяснить их правописа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роткая летняя ночь на исходе. На востоке ярким плам…н…м алеет край неба, а в пр…роде начинается пробужден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емя от врем…н… раздает(?)ся пение птиц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 дорог… от деревн… потянулось стадо. В обратном направлени… движется машина с зерн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500040" y="1571400"/>
            <a:ext cx="842472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полнить упражнение 303 с. 14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учить разносклоняемые имена существительны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4"/>
          <p:cNvSpPr/>
          <p:nvPr/>
        </p:nvSpPr>
        <p:spPr>
          <a:xfrm>
            <a:off x="1979640" y="0"/>
            <a:ext cx="57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 u="sng">
                <a:solidFill>
                  <a:srgbClr val="1a13a1"/>
                </a:solidFill>
                <a:uFillTx/>
                <a:latin typeface="Arial Black"/>
              </a:rPr>
              <a:t>Склонение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179280" y="2151000"/>
            <a:ext cx="3097440" cy="2430360"/>
          </a:xfrm>
          <a:prstGeom prst="ellipse">
            <a:avLst/>
          </a:prstGeom>
          <a:gradFill rotWithShape="0">
            <a:gsLst>
              <a:gs pos="0">
                <a:srgbClr val="612e22"/>
              </a:gs>
              <a:gs pos="50000">
                <a:srgbClr val="d16349"/>
              </a:gs>
              <a:gs pos="100000">
                <a:srgbClr val="612e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bat-Bold"/>
              </a:rPr>
              <a:t>1-е склонение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bat-Bold"/>
              </a:rPr>
              <a:t>ж.р.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bat-Bold"/>
              </a:rPr>
              <a:t>м.р.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bat-Bold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Oval 7"/>
          <p:cNvSpPr/>
          <p:nvPr/>
        </p:nvSpPr>
        <p:spPr>
          <a:xfrm>
            <a:off x="2700360" y="3591000"/>
            <a:ext cx="3166920" cy="2359080"/>
          </a:xfrm>
          <a:prstGeom prst="ellipse">
            <a:avLst/>
          </a:prstGeom>
          <a:gradFill rotWithShape="0">
            <a:gsLst>
              <a:gs pos="0">
                <a:srgbClr val="612e22"/>
              </a:gs>
              <a:gs pos="50000">
                <a:srgbClr val="d16349"/>
              </a:gs>
              <a:gs pos="100000">
                <a:srgbClr val="612e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bat-Bold"/>
              </a:rPr>
              <a:t>2-е с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bat-Bold"/>
              </a:rPr>
              <a:t>м.р. 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bat-Bold"/>
              </a:rPr>
              <a:t>ср.р. 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5724360" y="4508640"/>
            <a:ext cx="3240360" cy="2233440"/>
          </a:xfrm>
          <a:prstGeom prst="ellipse">
            <a:avLst/>
          </a:prstGeom>
          <a:gradFill rotWithShape="0">
            <a:gsLst>
              <a:gs pos="0">
                <a:srgbClr val="612e22"/>
              </a:gs>
              <a:gs pos="50000">
                <a:srgbClr val="d16349"/>
              </a:gs>
              <a:gs pos="100000">
                <a:srgbClr val="612e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bat-Bold"/>
              </a:rPr>
              <a:t>3-е с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bat-Bold"/>
              </a:rPr>
              <a:t>Ж.р. с Ь на конце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Line 9"/>
          <p:cNvSpPr/>
          <p:nvPr/>
        </p:nvSpPr>
        <p:spPr>
          <a:xfrm flipH="1">
            <a:off x="2123640" y="1052640"/>
            <a:ext cx="863640" cy="14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Line 10"/>
          <p:cNvSpPr/>
          <p:nvPr/>
        </p:nvSpPr>
        <p:spPr>
          <a:xfrm>
            <a:off x="4859280" y="1052640"/>
            <a:ext cx="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Line 11"/>
          <p:cNvSpPr/>
          <p:nvPr/>
        </p:nvSpPr>
        <p:spPr>
          <a:xfrm>
            <a:off x="6659640" y="1052640"/>
            <a:ext cx="1224000" cy="34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2268360" y="3284640"/>
            <a:ext cx="360720" cy="3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2700360" y="3284640"/>
            <a:ext cx="358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1619280" y="3573360"/>
            <a:ext cx="576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5003640" y="4581360"/>
            <a:ext cx="432000" cy="28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8" name="Line 19"/>
          <p:cNvSpPr/>
          <p:nvPr/>
        </p:nvSpPr>
        <p:spPr>
          <a:xfrm>
            <a:off x="1619280" y="3357720"/>
            <a:ext cx="57636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9" name="Line 20"/>
          <p:cNvSpPr/>
          <p:nvPr/>
        </p:nvSpPr>
        <p:spPr>
          <a:xfrm>
            <a:off x="4500720" y="472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Rectangle 21"/>
          <p:cNvSpPr/>
          <p:nvPr/>
        </p:nvSpPr>
        <p:spPr>
          <a:xfrm>
            <a:off x="4788000" y="5013360"/>
            <a:ext cx="43344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292720" y="5013360"/>
            <a:ext cx="36036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4427640" y="5157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Объект 1"/>
          <p:cNvGraphicFramePr/>
          <p:nvPr/>
        </p:nvGraphicFramePr>
        <p:xfrm>
          <a:off x="250920" y="189000"/>
          <a:ext cx="878508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7850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160" y="6191280"/>
            <a:ext cx="65545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736" name="Рисунок 2"/>
          <p:cNvGrpSpPr/>
          <p:nvPr/>
        </p:nvGrpSpPr>
        <p:grpSpPr>
          <a:xfrm>
            <a:off x="96840" y="103320"/>
            <a:ext cx="8888400" cy="6608520"/>
            <a:chOff x="96840" y="103320"/>
            <a:chExt cx="8888400" cy="6608520"/>
          </a:xfrm>
        </p:grpSpPr>
        <p:pic>
          <p:nvPicPr>
            <p:cNvPr id="737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888400" cy="66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463680" y="473040"/>
              <a:ext cx="8145360" cy="58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761760" y="6742080"/>
            <a:ext cx="7281720" cy="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2160" bIns="-2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88a1ad"/>
              </a:solidFill>
              <a:latin typeface="Georgia"/>
            </a:endParaRPr>
          </a:p>
        </p:txBody>
      </p:sp>
      <p:graphicFrame>
        <p:nvGraphicFramePr>
          <p:cNvPr id="740" name="Объект 10"/>
          <p:cNvGraphicFramePr/>
          <p:nvPr/>
        </p:nvGraphicFramePr>
        <p:xfrm>
          <a:off x="108000" y="82440"/>
          <a:ext cx="8856720" cy="656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1" name="Объект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82440"/>
                    <a:ext cx="885672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512640" y="5948280"/>
            <a:ext cx="64008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title"/>
          </p:nvPr>
        </p:nvSpPr>
        <p:spPr>
          <a:xfrm>
            <a:off x="356760" y="1857240"/>
            <a:ext cx="8496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Разносклоняемые</a:t>
            </a:r>
            <a:br>
              <a:rPr sz="5400"/>
            </a:br>
            <a:r>
              <a:rPr b="1" i="1" lang="ru-RU" sz="5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имена существительные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4"/>
          <p:cNvSpPr/>
          <p:nvPr/>
        </p:nvSpPr>
        <p:spPr>
          <a:xfrm>
            <a:off x="108000" y="141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1a13a1"/>
                </a:solidFill>
                <a:uFillTx/>
                <a:latin typeface="Arial Black"/>
              </a:rPr>
              <a:t>Разносклоняемые существительные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0" y="184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611280" y="328608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12d1c"/>
                </a:solidFill>
                <a:latin typeface="Arbat-Bold"/>
              </a:rPr>
              <a:t>какие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1692360" y="436572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12d1c"/>
                </a:solidFill>
                <a:latin typeface="Arbat-Bold"/>
              </a:rPr>
              <a:t>сколько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Text Box 8"/>
          <p:cNvSpPr/>
          <p:nvPr/>
        </p:nvSpPr>
        <p:spPr>
          <a:xfrm>
            <a:off x="3132000" y="5445000"/>
            <a:ext cx="58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712d1c"/>
                </a:solidFill>
                <a:latin typeface="Arbat-Bold"/>
              </a:rPr>
              <a:t>в чём особенность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12280" y="1037880"/>
            <a:ext cx="75438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0" y="-1179720"/>
            <a:ext cx="9144000" cy="82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f496f"/>
              </a:solidFill>
              <a:latin typeface="Georgia"/>
            </a:endParaRPr>
          </a:p>
        </p:txBody>
      </p:sp>
      <p:pic>
        <p:nvPicPr>
          <p:cNvPr id="751" name="Рисунок 6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499680" y="1499760"/>
            <a:ext cx="799956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1a13a1"/>
                </a:solidFill>
                <a:latin typeface="Times New Roman"/>
                <a:ea typeface="Times New Roman"/>
              </a:rPr>
              <a:t>Страничка истории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2:29:24Z</dcterms:created>
  <dc:creator>Victor</dc:creator>
  <dc:description/>
  <dc:language>en-US</dc:language>
  <cp:lastModifiedBy>Ирина</cp:lastModifiedBy>
  <dcterms:modified xsi:type="dcterms:W3CDTF">2024-04-03T09:36:49Z</dcterms:modified>
  <cp:revision>51</cp:revision>
  <dc:subject/>
  <dc:title>Слайд 1</dc:title>
</cp:coreProperties>
</file>